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8.jpeg" ContentType="image/jpeg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8.wmf" ContentType="image/x-wmf"/>
  <Override PartName="/ppt/media/image17.jpeg" ContentType="image/jpeg"/>
  <Override PartName="/ppt/media/image2.wmf" ContentType="image/x-wmf"/>
  <Override PartName="/ppt/media/image25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6.gif" ContentType="image/gi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3C6-C323-491F-AAAD-56F6E2DE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526-5B43-4661-8910-CC528E97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F26-1718-4248-B365-4FFAF984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B6F-C99F-4F87-9B50-CE71B0B5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8DE6-9483-47F9-8EE0-C4D3043A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F905-9A63-4A4A-9189-CA0FB38F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F3E2-DAB1-400F-A052-36E3C147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4DAD-CE67-40B1-B282-9657E1CE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E80C-80FC-4924-865A-9057AA43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421-692A-409C-A969-964DCCE1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4610-0643-45F4-A066-D2DB34C3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615-119B-4B61-B6B3-C6A679ED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E24E-28DB-4FA3-90F9-2F84DADE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3B23-EC06-4EB9-A22F-22714DF3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ECFE-AD77-4E14-B701-68054D06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CD9D-F577-47AB-9C4B-A3A27AAE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5833-F579-484D-A979-4CA84982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377-6ED8-4ED8-AE82-BBEBE349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B2D-A2B4-40F3-8C48-1003BE3D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FDA-9178-4141-8882-FB234A50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27A-9E94-4968-BDAD-227F1F98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086-3B88-4D22-802A-247D3693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6E9-3401-4964-8D37-02F1B442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E8D-0363-435E-B622-46AAB87D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22D9-3651-4F55-86BF-11D950884C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C718-855B-49E0-B301-2C1E3A025E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5.xm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s of Speech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, Adjectives,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219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1295280" y="609480"/>
            <a:ext cx="64008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the correct nouns in each sentence. They refer to a person, place or 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r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ok h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ayl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layed with h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l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av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ll asleep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8380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914400"/>
            <a:ext cx="7772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610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a sentence of your own now. You must use at least 2 nouns in your sent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jectives are words that are used to describe something or someon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ectives help give more information about somet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/sm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954360" cy="1471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1512720" cy="1676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34120" y="4724280"/>
            <a:ext cx="1876320" cy="162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057400" y="4800600"/>
            <a:ext cx="1104840" cy="127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5800" y="2438280"/>
            <a:ext cx="1828800" cy="588960"/>
          </a:xfrm>
          <a:prstGeom prst="rect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on the adjective in the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844560" y="281016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1803600" y="2810160"/>
            <a:ext cx="971280" cy="667800"/>
          </a:xfrm>
          <a:custGeom>
            <a:avLst/>
            <a:gdLst>
              <a:gd name="textAreaLeft" fmla="*/ 43200 w 971280"/>
              <a:gd name="textAreaRight" fmla="*/ 928080 w 9712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411" h="21600">
                <a:moveTo>
                  <a:pt x="0" y="0"/>
                </a:moveTo>
                <a:lnTo>
                  <a:pt x="31411" y="0"/>
                </a:lnTo>
                <a:lnTo>
                  <a:pt x="31411" y="21600"/>
                </a:lnTo>
                <a:lnTo>
                  <a:pt x="0" y="21600"/>
                </a:lnTo>
                <a:close/>
              </a:path>
              <a:path fill="lightenLess" w="31411" h="21600">
                <a:moveTo>
                  <a:pt x="0" y="0"/>
                </a:moveTo>
                <a:lnTo>
                  <a:pt x="31411" y="0"/>
                </a:lnTo>
                <a:lnTo>
                  <a:pt x="30011" y="1400"/>
                </a:lnTo>
                <a:lnTo>
                  <a:pt x="1400" y="1400"/>
                </a:lnTo>
                <a:close/>
              </a:path>
              <a:path fill="darken" w="31411" h="21600">
                <a:moveTo>
                  <a:pt x="31411" y="0"/>
                </a:moveTo>
                <a:lnTo>
                  <a:pt x="31411" y="21600"/>
                </a:lnTo>
                <a:lnTo>
                  <a:pt x="30011" y="20200"/>
                </a:lnTo>
                <a:lnTo>
                  <a:pt x="30011" y="1400"/>
                </a:lnTo>
                <a:close/>
              </a:path>
              <a:path fill="darkenLess" w="31411" h="21600">
                <a:moveTo>
                  <a:pt x="31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1" y="20200"/>
                </a:lnTo>
                <a:close/>
              </a:path>
              <a:path fill="lighten" w="31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2867400" y="2810160"/>
            <a:ext cx="1215000" cy="667800"/>
          </a:xfrm>
          <a:custGeom>
            <a:avLst/>
            <a:gdLst>
              <a:gd name="textAreaLeft" fmla="*/ 43200 w 1215000"/>
              <a:gd name="textAreaRight" fmla="*/ 1171800 w 12150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9290" h="21600">
                <a:moveTo>
                  <a:pt x="0" y="0"/>
                </a:moveTo>
                <a:lnTo>
                  <a:pt x="39290" y="0"/>
                </a:lnTo>
                <a:lnTo>
                  <a:pt x="39290" y="21600"/>
                </a:lnTo>
                <a:lnTo>
                  <a:pt x="0" y="21600"/>
                </a:lnTo>
                <a:close/>
              </a:path>
              <a:path fill="lightenLess" w="39290" h="21600">
                <a:moveTo>
                  <a:pt x="0" y="0"/>
                </a:moveTo>
                <a:lnTo>
                  <a:pt x="39290" y="0"/>
                </a:lnTo>
                <a:lnTo>
                  <a:pt x="37890" y="1400"/>
                </a:lnTo>
                <a:lnTo>
                  <a:pt x="1400" y="1400"/>
                </a:lnTo>
                <a:close/>
              </a:path>
              <a:path fill="darken" w="39290" h="21600">
                <a:moveTo>
                  <a:pt x="39290" y="0"/>
                </a:moveTo>
                <a:lnTo>
                  <a:pt x="39290" y="21600"/>
                </a:lnTo>
                <a:lnTo>
                  <a:pt x="37890" y="20200"/>
                </a:lnTo>
                <a:lnTo>
                  <a:pt x="37890" y="1400"/>
                </a:lnTo>
                <a:close/>
              </a:path>
              <a:path fill="darkenLess" w="39290" h="21600">
                <a:moveTo>
                  <a:pt x="3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90" y="20200"/>
                </a:lnTo>
                <a:close/>
              </a:path>
              <a:path fill="lighten" w="3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4084920" y="280152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4804560" y="281016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6" action="ppaction://hlinksldjump"/>
          </p:cNvPr>
          <p:cNvSpPr/>
          <p:nvPr/>
        </p:nvSpPr>
        <p:spPr>
          <a:xfrm>
            <a:off x="5726880" y="2810160"/>
            <a:ext cx="852480" cy="667800"/>
          </a:xfrm>
          <a:custGeom>
            <a:avLst/>
            <a:gdLst>
              <a:gd name="textAreaLeft" fmla="*/ 43200 w 852480"/>
              <a:gd name="textAreaRight" fmla="*/ 809280 w 8524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7570" h="21600">
                <a:moveTo>
                  <a:pt x="0" y="0"/>
                </a:moveTo>
                <a:lnTo>
                  <a:pt x="27570" y="0"/>
                </a:lnTo>
                <a:lnTo>
                  <a:pt x="27570" y="21600"/>
                </a:lnTo>
                <a:lnTo>
                  <a:pt x="0" y="21600"/>
                </a:lnTo>
                <a:close/>
              </a:path>
              <a:path fill="lightenLess" w="27570" h="21600">
                <a:moveTo>
                  <a:pt x="0" y="0"/>
                </a:moveTo>
                <a:lnTo>
                  <a:pt x="27570" y="0"/>
                </a:lnTo>
                <a:lnTo>
                  <a:pt x="26170" y="1400"/>
                </a:lnTo>
                <a:lnTo>
                  <a:pt x="1400" y="1400"/>
                </a:lnTo>
                <a:close/>
              </a:path>
              <a:path fill="darken" w="27570" h="21600">
                <a:moveTo>
                  <a:pt x="27570" y="0"/>
                </a:moveTo>
                <a:lnTo>
                  <a:pt x="27570" y="21600"/>
                </a:lnTo>
                <a:lnTo>
                  <a:pt x="26170" y="20200"/>
                </a:lnTo>
                <a:lnTo>
                  <a:pt x="26170" y="1400"/>
                </a:lnTo>
                <a:close/>
              </a:path>
              <a:path fill="darkenLess" w="27570" h="21600">
                <a:moveTo>
                  <a:pt x="275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0" y="20200"/>
                </a:lnTo>
                <a:close/>
              </a:path>
              <a:path fill="lighten" w="275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6487920" y="2810160"/>
            <a:ext cx="1945080" cy="667800"/>
          </a:xfrm>
          <a:custGeom>
            <a:avLst/>
            <a:gdLst>
              <a:gd name="textAreaLeft" fmla="*/ 43200 w 1945080"/>
              <a:gd name="textAreaRight" fmla="*/ 1901880 w 19450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2891" h="21600">
                <a:moveTo>
                  <a:pt x="0" y="0"/>
                </a:moveTo>
                <a:lnTo>
                  <a:pt x="62891" y="0"/>
                </a:lnTo>
                <a:lnTo>
                  <a:pt x="62891" y="21600"/>
                </a:lnTo>
                <a:lnTo>
                  <a:pt x="0" y="21600"/>
                </a:lnTo>
                <a:close/>
              </a:path>
              <a:path fill="lightenLess" w="62891" h="21600">
                <a:moveTo>
                  <a:pt x="0" y="0"/>
                </a:moveTo>
                <a:lnTo>
                  <a:pt x="62891" y="0"/>
                </a:lnTo>
                <a:lnTo>
                  <a:pt x="61491" y="1400"/>
                </a:lnTo>
                <a:lnTo>
                  <a:pt x="1400" y="1400"/>
                </a:lnTo>
                <a:close/>
              </a:path>
              <a:path fill="darken" w="62891" h="21600">
                <a:moveTo>
                  <a:pt x="62891" y="0"/>
                </a:moveTo>
                <a:lnTo>
                  <a:pt x="62891" y="21600"/>
                </a:lnTo>
                <a:lnTo>
                  <a:pt x="61491" y="20200"/>
                </a:lnTo>
                <a:lnTo>
                  <a:pt x="61491" y="1400"/>
                </a:lnTo>
                <a:close/>
              </a:path>
              <a:path fill="darkenLess" w="62891" h="21600">
                <a:moveTo>
                  <a:pt x="62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91" y="20200"/>
                </a:lnTo>
                <a:close/>
              </a:path>
              <a:path fill="lighten" w="62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2666880" y="4038480"/>
            <a:ext cx="3505320" cy="25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not an adjective in the sentence. Click on the word that describes the build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4343400" y="4495680"/>
            <a:ext cx="4800600" cy="2362320"/>
          </a:xfrm>
          <a:custGeom>
            <a:avLst/>
            <a:gdLst>
              <a:gd name="textAreaLeft" fmla="*/ 153000 w 4800600"/>
              <a:gd name="textAreaRight" fmla="*/ 4647600 w 480060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43891" h="21600">
                <a:moveTo>
                  <a:pt x="0" y="0"/>
                </a:moveTo>
                <a:lnTo>
                  <a:pt x="43891" y="0"/>
                </a:lnTo>
                <a:lnTo>
                  <a:pt x="43891" y="21600"/>
                </a:lnTo>
                <a:lnTo>
                  <a:pt x="0" y="21600"/>
                </a:lnTo>
                <a:close/>
              </a:path>
              <a:path fill="lightenLess" w="43891" h="21600">
                <a:moveTo>
                  <a:pt x="0" y="0"/>
                </a:moveTo>
                <a:lnTo>
                  <a:pt x="43891" y="0"/>
                </a:lnTo>
                <a:lnTo>
                  <a:pt x="42491" y="1400"/>
                </a:lnTo>
                <a:lnTo>
                  <a:pt x="1400" y="1400"/>
                </a:lnTo>
                <a:close/>
              </a:path>
              <a:path fill="darken" w="43891" h="21600">
                <a:moveTo>
                  <a:pt x="43891" y="0"/>
                </a:moveTo>
                <a:lnTo>
                  <a:pt x="43891" y="21600"/>
                </a:lnTo>
                <a:lnTo>
                  <a:pt x="42491" y="20200"/>
                </a:lnTo>
                <a:lnTo>
                  <a:pt x="42491" y="1400"/>
                </a:lnTo>
                <a:close/>
              </a:path>
              <a:path fill="darkenLess" w="43891" h="21600">
                <a:moveTo>
                  <a:pt x="43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91" y="20200"/>
                </a:lnTo>
                <a:close/>
              </a:path>
              <a:path fill="lighten" w="43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 is the word to describe the building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527560" cy="223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t an x under each adjective in the following sentence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white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ld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big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correct adjectives that you should have chosen are underlined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it’s your turn. Make a list of adjectives you could use to describe a cat. Type your answers below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8991720" cy="6858000"/>
          </a:xfrm>
          <a:custGeom>
            <a:avLst/>
            <a:gdLst>
              <a:gd name="textAreaLeft" fmla="*/ 444240 w 8991720"/>
              <a:gd name="textAreaRight" fmla="*/ 8547480 w 8991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320" h="21600">
                <a:moveTo>
                  <a:pt x="0" y="0"/>
                </a:moveTo>
                <a:lnTo>
                  <a:pt x="28320" y="0"/>
                </a:lnTo>
                <a:lnTo>
                  <a:pt x="28320" y="21600"/>
                </a:lnTo>
                <a:lnTo>
                  <a:pt x="0" y="21600"/>
                </a:lnTo>
                <a:close/>
              </a:path>
              <a:path fill="lightenLess" w="28320" h="21600">
                <a:moveTo>
                  <a:pt x="0" y="0"/>
                </a:moveTo>
                <a:lnTo>
                  <a:pt x="28320" y="0"/>
                </a:lnTo>
                <a:lnTo>
                  <a:pt x="26920" y="1400"/>
                </a:lnTo>
                <a:lnTo>
                  <a:pt x="1400" y="1400"/>
                </a:lnTo>
                <a:close/>
              </a:path>
              <a:path fill="darken" w="28320" h="21600">
                <a:moveTo>
                  <a:pt x="28320" y="0"/>
                </a:moveTo>
                <a:lnTo>
                  <a:pt x="28320" y="21600"/>
                </a:lnTo>
                <a:lnTo>
                  <a:pt x="26920" y="20200"/>
                </a:lnTo>
                <a:lnTo>
                  <a:pt x="26920" y="1400"/>
                </a:lnTo>
                <a:close/>
              </a:path>
              <a:path fill="darkenLess" w="28320" h="21600">
                <a:moveTo>
                  <a:pt x="2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0" y="20200"/>
                </a:lnTo>
                <a:close/>
              </a:path>
              <a:path fill="lighten" w="2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day we will review nouns and identify adjectives and verbs in sentenc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Verb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bs are words used to describe an action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on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920960" cy="1308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1609560" cy="1752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968400" cy="1752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943600" y="1066680"/>
            <a:ext cx="1755720" cy="1752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3429000" y="1066680"/>
            <a:ext cx="1647720" cy="1955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3124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9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verb in this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666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26668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1073160" y="265788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2211480" y="2657880"/>
            <a:ext cx="1039680" cy="667800"/>
          </a:xfrm>
          <a:custGeom>
            <a:avLst/>
            <a:gdLst>
              <a:gd name="textAreaLeft" fmla="*/ 43200 w 1039680"/>
              <a:gd name="textAreaRight" fmla="*/ 996480 w 10396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622" h="21600">
                <a:moveTo>
                  <a:pt x="0" y="0"/>
                </a:moveTo>
                <a:lnTo>
                  <a:pt x="33622" y="0"/>
                </a:lnTo>
                <a:lnTo>
                  <a:pt x="33622" y="21600"/>
                </a:lnTo>
                <a:lnTo>
                  <a:pt x="0" y="21600"/>
                </a:lnTo>
                <a:close/>
              </a:path>
              <a:path fill="lightenLess" w="33622" h="21600">
                <a:moveTo>
                  <a:pt x="0" y="0"/>
                </a:moveTo>
                <a:lnTo>
                  <a:pt x="33622" y="0"/>
                </a:lnTo>
                <a:lnTo>
                  <a:pt x="32222" y="1400"/>
                </a:lnTo>
                <a:lnTo>
                  <a:pt x="1400" y="1400"/>
                </a:lnTo>
                <a:close/>
              </a:path>
              <a:path fill="darken" w="33622" h="21600">
                <a:moveTo>
                  <a:pt x="33622" y="0"/>
                </a:moveTo>
                <a:lnTo>
                  <a:pt x="33622" y="21600"/>
                </a:lnTo>
                <a:lnTo>
                  <a:pt x="32222" y="20200"/>
                </a:lnTo>
                <a:lnTo>
                  <a:pt x="32222" y="1400"/>
                </a:lnTo>
                <a:close/>
              </a:path>
              <a:path fill="darkenLess" w="33622" h="21600">
                <a:moveTo>
                  <a:pt x="33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2" y="20200"/>
                </a:lnTo>
                <a:close/>
              </a:path>
              <a:path fill="lighten" w="33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89480" y="264960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9480" y="265788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74360" y="2657880"/>
            <a:ext cx="1102320" cy="667800"/>
          </a:xfrm>
          <a:custGeom>
            <a:avLst/>
            <a:gdLst>
              <a:gd name="textAreaLeft" fmla="*/ 43200 w 1102320"/>
              <a:gd name="textAreaRight" fmla="*/ 1059120 w 110232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00" y="2657880"/>
            <a:ext cx="1043640" cy="667800"/>
          </a:xfrm>
          <a:custGeom>
            <a:avLst/>
            <a:gdLst>
              <a:gd name="textAreaLeft" fmla="*/ 43200 w 1043640"/>
              <a:gd name="textAreaRight" fmla="*/ 1000440 w 104364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750" h="21600">
                <a:moveTo>
                  <a:pt x="0" y="0"/>
                </a:moveTo>
                <a:lnTo>
                  <a:pt x="33750" y="0"/>
                </a:lnTo>
                <a:lnTo>
                  <a:pt x="33750" y="21600"/>
                </a:lnTo>
                <a:lnTo>
                  <a:pt x="0" y="21600"/>
                </a:lnTo>
                <a:close/>
              </a:path>
              <a:path fill="lightenLess" w="33750" h="21600">
                <a:moveTo>
                  <a:pt x="0" y="0"/>
                </a:moveTo>
                <a:lnTo>
                  <a:pt x="33750" y="0"/>
                </a:lnTo>
                <a:lnTo>
                  <a:pt x="32350" y="1400"/>
                </a:lnTo>
                <a:lnTo>
                  <a:pt x="1400" y="1400"/>
                </a:lnTo>
                <a:close/>
              </a:path>
              <a:path fill="darken" w="33750" h="21600">
                <a:moveTo>
                  <a:pt x="33750" y="0"/>
                </a:moveTo>
                <a:lnTo>
                  <a:pt x="33750" y="21600"/>
                </a:lnTo>
                <a:lnTo>
                  <a:pt x="32350" y="20200"/>
                </a:lnTo>
                <a:lnTo>
                  <a:pt x="32350" y="1400"/>
                </a:lnTo>
                <a:close/>
              </a:path>
              <a:path fill="darkenLess" w="33750" h="21600">
                <a:moveTo>
                  <a:pt x="33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50" y="20200"/>
                </a:lnTo>
                <a:close/>
              </a:path>
              <a:path fill="lighten" w="33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228600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verb. Remember a verb is an action word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 flies is the verb in this sentence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00400" y="3606840"/>
            <a:ext cx="2070000" cy="1835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t an x under the verb in each sente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caught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jumped into the wa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sat quietly on the ru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se are the correct verbs that you should have put an x under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u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ump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to the wat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ietly on the ru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ll in the following sentences with a verb (action word)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ll              down the hi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Kendell          after the ball to get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Ryan            the ball to Spenc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981080"/>
            <a:ext cx="6400800" cy="4191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on a category to begin.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Nouns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_x000b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Verb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Nou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 are described as a person, place, or thing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85800" y="152280"/>
          <a:ext cx="7696080" cy="60195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60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an 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wthorne El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b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kate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99864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947880" cy="12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981080" y="3276720"/>
            <a:ext cx="93996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648320"/>
            <a:ext cx="833400" cy="1374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4114800" y="990720"/>
            <a:ext cx="1582560" cy="868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962520" y="2209680"/>
            <a:ext cx="1752480" cy="125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4495680" y="5240160"/>
            <a:ext cx="1217880" cy="844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4038480" y="38862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400800" y="762120"/>
            <a:ext cx="1370160" cy="11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6705720" y="2362320"/>
            <a:ext cx="1285920" cy="117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66294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6553080" y="5029200"/>
            <a:ext cx="154332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on the noun in this sentence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6095880" y="31240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1981080" y="31240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3429000" y="31240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4724280" y="31240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733920" y="4267080"/>
            <a:ext cx="1276200" cy="10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 is a noun in the sentence it refers to a thin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1800" y="3565440"/>
            <a:ext cx="2374920" cy="210528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noun. Remember a noun is a person, place or th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8686800" cy="6858000"/>
          </a:xfrm>
          <a:custGeom>
            <a:avLst/>
            <a:gdLst>
              <a:gd name="textAreaLeft" fmla="*/ 444240 w 8686800"/>
              <a:gd name="textAreaRight" fmla="*/ 8242560 w 8686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0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0" y="20200"/>
                </a:lnTo>
                <a:lnTo>
                  <a:pt x="25960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0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121140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685800"/>
            <a:ext cx="64008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nouns in these sentences. Put an x under each word that is a no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ris took his dog to the pa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yla played with her do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vid fell asleep in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971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971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54:28Z</dcterms:created>
  <dc:creator>owner</dc:creator>
  <dc:description/>
  <dc:language>en-US</dc:language>
  <cp:lastModifiedBy>Beth Ann</cp:lastModifiedBy>
  <dcterms:modified xsi:type="dcterms:W3CDTF">2009-04-13T00:39:26Z</dcterms:modified>
  <cp:revision>38</cp:revision>
  <dc:subject/>
  <dc:title>Parts of Speech:  Nouns, Adjectives, Adverbs</dc:title>
</cp:coreProperties>
</file>